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876-17E2-40B9-BA3C-35FDF672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BFFD-3104-4E31-A131-4A3C6514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ACD8-BDFC-4AC5-BC0A-01733AA2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DC8C-8F6F-488B-ACCC-58FDAB90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6216-4108-4C38-AEFC-F5483495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B66-659C-4493-9587-CCC57547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3B8-EA26-4613-8D0C-FFD98AEA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FFC-0D0E-4C45-AD68-5541DA07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E7D-D7EF-4465-AC17-34D9B917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BF9-2FC2-4236-A5AF-D7AEEDB1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A8A9-AF1A-4073-AE1A-A6BEB6C6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4E3-7896-4946-A995-E0E0BD8B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B88E-3A46-4CE3-9D7B-3EF43FC5F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ort Word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your spelling words.  Sort the words into four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762120" y="4267080"/>
            <a:ext cx="7543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762120" y="5029200"/>
            <a:ext cx="7543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762120" y="5791320"/>
            <a:ext cx="7543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2362320" y="3581280"/>
            <a:ext cx="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4191120" y="3581280"/>
            <a:ext cx="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6781680" y="3581280"/>
            <a:ext cx="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7:30:07Z</dcterms:created>
  <dc:creator> </dc:creator>
  <dc:description/>
  <dc:language>en-US</dc:language>
  <cp:lastModifiedBy>teacher</cp:lastModifiedBy>
  <dcterms:modified xsi:type="dcterms:W3CDTF">2011-03-05T09:23:07Z</dcterms:modified>
  <cp:revision>2</cp:revision>
  <dc:subject/>
  <dc:title>Sort Words</dc:title>
</cp:coreProperties>
</file>